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8220-7F65-4353-B0FA-2E74239176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7972-102B-4877-93A4-50AA997B2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might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of light from bulb / sun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of nutrients in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of nutrients in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ze of 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 of 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 students brainstorm.  Accept all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might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ight of the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e of growth (example - cm/wee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w leaves /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of 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important that students realize they is only ONE variable changing – this is the independent variable.  Every other variable must  remain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might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ze of the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yle of the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of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if force used to throw the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distance the plane will f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 distance the plane will f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of the time the plane stays in the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lide can be used as a formative evaluation or an activity you can do as a whole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0C05-13E0-48D3-930E-EA90C14D9A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57B9-39A0-4D4E-AC99-0F3974C0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109-86F2-4B5A-80B4-BDA8F2CA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A19-4EDB-44E5-BBAF-88D482EA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C444-99B6-4608-AC05-AF531489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58CA-4CC7-4DBE-AF29-450AF23C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8C0F-905E-4083-B51B-617387BA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E00C-CE18-4B93-B315-9B2FB1D1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C71B-79DF-4CB7-BB23-394B10BE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7B5B-7C58-4853-94EE-9879B467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AE15-3C13-4B08-B940-EE99A02E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AE22-FB51-4991-90A6-0844CD91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E4E7-792D-479F-BF84-8B0B2608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9B0D-AE3B-4C74-9A10-79FD0478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844F-E383-4C13-8FF9-84BD6423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9927-9218-4270-8CA7-01A75E05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B30A-5BF1-44E5-BD64-1709CE88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38B1-8C35-448D-A8DD-8DC3CE82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0812-A3F7-4819-B175-EB1CF92D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4A7-BAB4-44DE-8B16-24132FDC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259-169A-4C0C-9E8C-BC325628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C73-A9BB-4D28-A7A7-0B6589A9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79F-2F52-448F-A7F0-3892D2A2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DA56-E8AE-414A-8819-87EE735E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F52D-8EA6-4AF6-BA08-919FEEF2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041B-E633-4541-AFD9-C8EBB054F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D216-BC04-4CAE-A323-192865494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Scientific Metho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438280" y="3610080"/>
            <a:ext cx="4221360" cy="26384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152280" y="1676520"/>
            <a:ext cx="8839440" cy="76176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3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to Write a Testable Ques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5867280" y="661176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amara Helfer, 2012 Sequoia Science Exploration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68709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 </a:t>
            </a: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variabl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520" y="22096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variable is something that can CHAN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1" descr="Screen Shot 2014-12-18 at 12.52.49 PM.png"/>
          <p:cNvPicPr/>
          <p:nvPr/>
        </p:nvPicPr>
        <p:blipFill>
          <a:blip r:embed="rId1"/>
          <a:stretch/>
        </p:blipFill>
        <p:spPr>
          <a:xfrm>
            <a:off x="2209680" y="3352680"/>
            <a:ext cx="4775400" cy="290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estable Questions have two part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523880" y="182880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independen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depend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rcRect l="0" t="0" r="0" b="57564"/>
          <a:stretch/>
        </p:blipFill>
        <p:spPr>
          <a:xfrm>
            <a:off x="693720" y="3986280"/>
            <a:ext cx="814536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n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Independen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Variabl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2286000"/>
            <a:ext cx="7696080" cy="312408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variable that will be changed by you – the scientist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good experiment has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dependent variabl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ependen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Variabl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2133720"/>
            <a:ext cx="7696080" cy="304776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variable that is be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asur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your experim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sponse to the change you make using the independent variab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23924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estable Question Format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Revis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2209320"/>
            <a:ext cx="80769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 changing _______ affect _______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es changing _____ affect _____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I change ______ will it affect ______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3200400" y="25146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independ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3886200" y="358128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independ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2819520" y="457200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independ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6172200" y="25146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Comic Sans MS"/>
              </a:rPr>
              <a:t>depend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Comic Sans MS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6324480" y="3505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Comic Sans MS"/>
              </a:rPr>
              <a:t>depend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Comic Sans MS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6477120" y="457200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Comic Sans MS"/>
              </a:rPr>
              <a:t>depende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Comic Sans MS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4021200" cy="2438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523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changing the height of the ramp affect the speed of the car going down the ramp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4691160" y="3581280"/>
            <a:ext cx="39193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4021200" cy="24386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independent variabl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523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changing the height of the ramp affect the speed of the car going down the ramp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2"/>
          <a:stretch/>
        </p:blipFill>
        <p:spPr>
          <a:xfrm>
            <a:off x="4691160" y="3581280"/>
            <a:ext cx="39193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7"/>
          <p:cNvSpPr/>
          <p:nvPr/>
        </p:nvSpPr>
        <p:spPr>
          <a:xfrm>
            <a:off x="3657600" y="1447920"/>
            <a:ext cx="4495680" cy="457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changing the height of the ramp affect the speed of the car going down the ramp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4021200" cy="24386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dependent Vari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4691160" y="3581280"/>
            <a:ext cx="39193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4021200" cy="2438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ependent variabl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23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changing the height of the ramp affect the speed of the car going down the ramp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4691160" y="3581280"/>
            <a:ext cx="39193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10"/>
          <p:cNvGrpSpPr/>
          <p:nvPr/>
        </p:nvGrpSpPr>
        <p:grpSpPr>
          <a:xfrm>
            <a:off x="838080" y="1905120"/>
            <a:ext cx="7543800" cy="990360"/>
            <a:chOff x="838080" y="1905120"/>
            <a:chExt cx="7543800" cy="990360"/>
          </a:xfrm>
        </p:grpSpPr>
        <p:sp>
          <p:nvSpPr>
            <p:cNvPr id="223" name="AutoShape 2"/>
            <p:cNvSpPr/>
            <p:nvPr/>
          </p:nvSpPr>
          <p:spPr>
            <a:xfrm>
              <a:off x="2209680" y="1905120"/>
              <a:ext cx="6172200" cy="495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AutoShape 7"/>
            <p:cNvSpPr/>
            <p:nvPr/>
          </p:nvSpPr>
          <p:spPr>
            <a:xfrm>
              <a:off x="838080" y="2400480"/>
              <a:ext cx="1752840" cy="495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5" name=""/>
          <p:cNvSpPr txBox="1"/>
          <p:nvPr/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changing the height of the ramp affect the speed of the car going down the ramp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914400" y="4038480"/>
            <a:ext cx="4021200" cy="2438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pendent Vari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4691160" y="3581280"/>
            <a:ext cx="39193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OP2.tiff"/>
          <p:cNvPicPr/>
          <p:nvPr/>
        </p:nvPicPr>
        <p:blipFill>
          <a:blip r:embed="rId1"/>
          <a:srcRect l="0" t="0" r="0" b="721"/>
          <a:stretch/>
        </p:blipFill>
        <p:spPr>
          <a:xfrm>
            <a:off x="0" y="1320840"/>
            <a:ext cx="9186840" cy="50799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"/>
          <p:cNvSpPr/>
          <p:nvPr/>
        </p:nvSpPr>
        <p:spPr>
          <a:xfrm>
            <a:off x="304920" y="3808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imes scientists just like to explore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Testable Ques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18284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changing the amount of light affect the growth rate of plan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685800" y="3581280"/>
            <a:ext cx="4419720" cy="192276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ependent vari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pendent vari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5334120" y="3581280"/>
            <a:ext cx="887400" cy="2248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2"/>
          <a:stretch/>
        </p:blipFill>
        <p:spPr>
          <a:xfrm>
            <a:off x="6477120" y="3581280"/>
            <a:ext cx="887400" cy="2248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3"/>
          <a:stretch/>
        </p:blipFill>
        <p:spPr>
          <a:xfrm>
            <a:off x="7543800" y="3581280"/>
            <a:ext cx="8874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Testable Ques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9810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the temperature of water affect the time it takes a sugar cube to dissol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1143000" y="3886200"/>
            <a:ext cx="4419720" cy="19227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ependent vari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pendent vari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Picture 1" descr="Screen Shot 2014-12-18 at 1.07.17 PM.png"/>
          <p:cNvPicPr/>
          <p:nvPr/>
        </p:nvPicPr>
        <p:blipFill>
          <a:blip r:embed="rId1"/>
          <a:stretch/>
        </p:blipFill>
        <p:spPr>
          <a:xfrm>
            <a:off x="5715000" y="3505320"/>
            <a:ext cx="2743200" cy="22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Let’s Review </a:t>
            </a:r>
            <a:r>
              <a:rPr b="0" lang="en-US" sz="4400" spc="-1" strike="noStrike">
                <a:solidFill>
                  <a:srgbClr val="ff66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22093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estable Question needs 2 part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 A _____________ vari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 An _____________ vari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Let’s Review </a:t>
            </a:r>
            <a:r>
              <a:rPr b="0" lang="en-US" sz="4400" spc="-1" strike="noStrike">
                <a:solidFill>
                  <a:srgbClr val="ff66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22093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stable Questions need 2 part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71640" indent="-51444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ndepend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71640" indent="-514440" algn="ctr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epend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rcRect l="0" t="0" r="0" b="57564"/>
          <a:stretch/>
        </p:blipFill>
        <p:spPr>
          <a:xfrm>
            <a:off x="533520" y="4876920"/>
            <a:ext cx="814536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mic Sans MS"/>
              </a:rPr>
              <a:t>Let’s Practice what we’ve learned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320" y="4648320"/>
            <a:ext cx="6782040" cy="175248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makes plants grow bes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557280" cy="1409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8153280" y="4724280"/>
            <a:ext cx="557280" cy="14097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2"/>
          <p:cNvSpPr/>
          <p:nvPr/>
        </p:nvSpPr>
        <p:spPr>
          <a:xfrm>
            <a:off x="1957320" y="1828800"/>
            <a:ext cx="50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following question testabl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Down Arrow 3"/>
          <p:cNvSpPr/>
          <p:nvPr/>
        </p:nvSpPr>
        <p:spPr>
          <a:xfrm>
            <a:off x="2685960" y="2595600"/>
            <a:ext cx="1295640" cy="1805040"/>
          </a:xfrm>
          <a:prstGeom prst="downArrow">
            <a:avLst>
              <a:gd name="adj1" fmla="val 43250"/>
              <a:gd name="adj2" fmla="val 51070"/>
            </a:avLst>
          </a:prstGeom>
          <a:solidFill>
            <a:srgbClr val="ff66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Picture 6" descr="Screen Shot 2014-12-18 at 1.47.27 PM.png"/>
          <p:cNvPicPr/>
          <p:nvPr/>
        </p:nvPicPr>
        <p:blipFill>
          <a:blip r:embed="rId3"/>
          <a:stretch/>
        </p:blipFill>
        <p:spPr>
          <a:xfrm>
            <a:off x="4495680" y="2438280"/>
            <a:ext cx="228600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, it is NOT a testable question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4723920"/>
            <a:ext cx="7162560" cy="121932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make it a testable question but first let’s discuss the step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3" name="Picture 1" descr="Screen Shot 2014-12-18 at 1.51.18 PM.png"/>
          <p:cNvPicPr/>
          <p:nvPr/>
        </p:nvPicPr>
        <p:blipFill>
          <a:blip r:embed="rId1"/>
          <a:stretch/>
        </p:blipFill>
        <p:spPr>
          <a:xfrm>
            <a:off x="3276720" y="2057400"/>
            <a:ext cx="228600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06704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eps to Turning a Gen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 into a Testable Ques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Step 1 – Read the question careful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Step 2 – Brainstorm causes and an effec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Step 3 - Choose ONE cause and ONE effe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Step 4 – Plug them into the testable question forma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5105520" y="457200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Let’s do this toge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" name="Picture 3" descr="Screen Shot 2014-12-18 at 1.57.53 PM.png"/>
          <p:cNvPicPr/>
          <p:nvPr/>
        </p:nvPicPr>
        <p:blipFill>
          <a:blip r:embed="rId1"/>
          <a:stretch/>
        </p:blipFill>
        <p:spPr>
          <a:xfrm>
            <a:off x="1523880" y="4267080"/>
            <a:ext cx="297180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2971800" y="3962520"/>
            <a:ext cx="1044720" cy="26431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omic Sans MS"/>
              </a:rPr>
              <a:t>Step 1 Read the question careful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makes plants grow best</a:t>
            </a:r>
            <a:r>
              <a:rPr b="0" lang="fr-CA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609480" y="457200"/>
            <a:ext cx="7848720" cy="129528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ep 1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ad the question careful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2"/>
          <a:stretch/>
        </p:blipFill>
        <p:spPr>
          <a:xfrm>
            <a:off x="4648320" y="3962520"/>
            <a:ext cx="10443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makes plants grow best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otential independent variab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mount of wa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609480" y="228600"/>
            <a:ext cx="7848720" cy="160020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re examples of things you can change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7086600" y="3352680"/>
            <a:ext cx="1281240" cy="32418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"/>
          <p:cNvPicPr/>
          <p:nvPr/>
        </p:nvPicPr>
        <p:blipFill>
          <a:blip r:embed="rId2"/>
          <a:stretch/>
        </p:blipFill>
        <p:spPr>
          <a:xfrm>
            <a:off x="5029200" y="3276720"/>
            <a:ext cx="132732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makes plants grow best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otential dependent variab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eight of pl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304920" y="533520"/>
            <a:ext cx="8458200" cy="106668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specific effects can you look fo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6553080" y="3429000"/>
            <a:ext cx="1067040" cy="2698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5029200" y="3276720"/>
            <a:ext cx="1143000" cy="28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ploring or making observations often makes scientists curious and they have question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352680" y="4821120"/>
            <a:ext cx="2971800" cy="1857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380880" y="281952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 answer these questions, most scientists carry out investigations using </a:t>
            </a: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The Scientific Method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696080" cy="320040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3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et’s plug ONE cause and ONE effect into the testable question forma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effect of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____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n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____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cause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goes in the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first blank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, and the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effect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goes in the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second blank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4: One possible testable qu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effec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il typ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lant heigh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1"/>
          <a:stretch/>
        </p:blipFill>
        <p:spPr>
          <a:xfrm>
            <a:off x="8077320" y="4724280"/>
            <a:ext cx="406440" cy="1028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"/>
          <p:cNvPicPr/>
          <p:nvPr/>
        </p:nvPicPr>
        <p:blipFill>
          <a:blip r:embed="rId2"/>
          <a:stretch/>
        </p:blipFill>
        <p:spPr>
          <a:xfrm>
            <a:off x="533520" y="4724280"/>
            <a:ext cx="40644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ontrol variab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all the variables in your experiment that you want to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remain consta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They come from the list of causes we brainstormed earli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effec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il typ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lant heigh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variables for this experiment might inclu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 of pl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ze of the pla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wing conditions (sunlight, temperature, etc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mount of wa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 of contain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ze of the contain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8051760" y="5448240"/>
            <a:ext cx="406440" cy="1028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"/>
          <p:cNvPicPr/>
          <p:nvPr/>
        </p:nvPicPr>
        <p:blipFill>
          <a:blip r:embed="rId2"/>
          <a:stretch/>
        </p:blipFill>
        <p:spPr>
          <a:xfrm>
            <a:off x="7365960" y="5448240"/>
            <a:ext cx="406440" cy="102888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286000" y="30492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 Variab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This question is NOT testabl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28191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oes a paper airplane fl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2666880" cy="20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</a:t>
            </a:r>
            <a:r>
              <a:rPr b="0" lang="ja-JP" sz="4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 Make the Question Testable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1828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ecide what you are going to change (the cause /independent variable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ize of the pl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6095880" y="3200400"/>
            <a:ext cx="2266920" cy="17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609120" y="175212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ecide what you are going to measure (the effect / dependent variable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orizontal distance the plane will f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itle 1"/>
          <p:cNvSpPr/>
          <p:nvPr/>
        </p:nvSpPr>
        <p:spPr>
          <a:xfrm>
            <a:off x="380880" y="38088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</a:t>
            </a:r>
            <a:r>
              <a:rPr b="0" lang="ja-JP" sz="4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 Make the Question Testable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3581280" y="5562720"/>
            <a:ext cx="144792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 the Question Test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82844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Now select </a:t>
            </a:r>
            <a:r>
              <a:rPr b="0" lang="en-US" sz="3200" spc="-1" strike="noStrike" u="sng">
                <a:solidFill>
                  <a:srgbClr val="008000"/>
                </a:solidFill>
                <a:uFillTx/>
                <a:latin typeface="Comic Sans MS"/>
              </a:rPr>
              <a:t>one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dependent variable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and </a:t>
            </a:r>
            <a:r>
              <a:rPr b="0" lang="en-US" sz="3200" spc="-1" strike="noStrike" u="sng">
                <a:solidFill>
                  <a:srgbClr val="008000"/>
                </a:solidFill>
                <a:uFillTx/>
                <a:latin typeface="Comic Sans MS"/>
              </a:rPr>
              <a:t>one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dependent vari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Put them together to create the testable ques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2590560" cy="2016000"/>
          </a:xfrm>
          <a:prstGeom prst="rect">
            <a:avLst/>
          </a:prstGeom>
          <a:ln w="0">
            <a:noFill/>
          </a:ln>
        </p:spPr>
      </p:pic>
      <p:sp>
        <p:nvSpPr>
          <p:cNvPr id="290" name="TextBox 1"/>
          <p:cNvSpPr/>
          <p:nvPr/>
        </p:nvSpPr>
        <p:spPr>
          <a:xfrm>
            <a:off x="914400" y="48769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es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ype of pape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fect the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distance a paper airplane fli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re the control variabl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6553080" y="3581280"/>
            <a:ext cx="2266920" cy="1764000"/>
          </a:xfrm>
          <a:prstGeom prst="rect">
            <a:avLst/>
          </a:prstGeom>
          <a:ln w="0">
            <a:noFill/>
          </a:ln>
        </p:spPr>
      </p:pic>
      <p:sp>
        <p:nvSpPr>
          <p:cNvPr id="293" name="TextBox 1"/>
          <p:cNvSpPr/>
          <p:nvPr/>
        </p:nvSpPr>
        <p:spPr>
          <a:xfrm>
            <a:off x="838080" y="19051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es the type of paper affect the distance a paper airplane fli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Box 2"/>
          <p:cNvSpPr/>
          <p:nvPr/>
        </p:nvSpPr>
        <p:spPr>
          <a:xfrm>
            <a:off x="914400" y="3048120"/>
            <a:ext cx="563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Variables might inclu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yle of airpl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ying conditions (win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you throw the airpl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All variables other than </a:t>
            </a:r>
            <a:r>
              <a:rPr b="1" lang="en-US" sz="2400" spc="-1" strike="noStrike">
                <a:solidFill>
                  <a:srgbClr val="ff9999"/>
                </a:solidFill>
                <a:latin typeface="Comic Sans MS"/>
              </a:rPr>
              <a:t>type of paper</a:t>
            </a:r>
            <a:r>
              <a:rPr b="0" lang="en-US" sz="2400" spc="-1" strike="noStrike">
                <a:solidFill>
                  <a:srgbClr val="ff9999"/>
                </a:solidFill>
                <a:latin typeface="Comic Sans MS"/>
              </a:rPr>
              <a:t> must remain the sa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practice some more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6" name="Picture 1" descr="Screen Shot 2014-12-18 at 2.52.27 PM.png"/>
          <p:cNvPicPr/>
          <p:nvPr/>
        </p:nvPicPr>
        <p:blipFill>
          <a:blip r:embed="rId1"/>
          <a:stretch/>
        </p:blipFill>
        <p:spPr>
          <a:xfrm>
            <a:off x="2832120" y="1905120"/>
            <a:ext cx="34797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590920"/>
            <a:ext cx="7588080" cy="285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important to use specific language when forming testable questions. Replace the vague underlined statements with more specific, measurable vocabulary.</a:t>
            </a:r>
            <a:br>
              <a:rPr sz="2000"/>
            </a:b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Select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be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mato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tudents who sleep at least 8 hours per day are probab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better stud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itle 1"/>
          <p:cNvSpPr/>
          <p:nvPr/>
        </p:nvSpPr>
        <p:spPr>
          <a:xfrm>
            <a:off x="4953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specific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952560" y="2565360"/>
            <a:ext cx="75438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lect the tomato that grow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 the fastest rate, the reddest, to the greatest mass, with firmness,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952560" y="2565360"/>
            <a:ext cx="75438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at would the “best” tomato look lik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914400" y="4267080"/>
            <a:ext cx="75438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ter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uld mean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ve better grades, are more alert, participate more, have less  behavior issues, interrupt class less, more time on task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914400" y="4267080"/>
            <a:ext cx="754380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at could the “better student” mea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1882800" y="5486400"/>
            <a:ext cx="6665760" cy="10666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terms can be interpreted many way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erson performing the experiment would know what exactly should be measur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914400" y="5487840"/>
            <a:ext cx="7634160" cy="10652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What do you think the downside is for not using specific language?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0200" y="4876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f you would like/need more practice, repeat the same exercise with the following statement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old da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determine what happens to a can of soda left outsid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rrange the Refrigerators at Best Buy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largest on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front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who sleep at least 8 hours per day are probab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better driv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fter touching the bearded dragons, make sure you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wash your hand thorough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itle 1"/>
          <p:cNvSpPr/>
          <p:nvPr/>
        </p:nvSpPr>
        <p:spPr>
          <a:xfrm>
            <a:off x="495360" y="5335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specific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Scientific Metho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" descr="Screen Shot 2015-01-08 at 10.29.46 AM.png"/>
          <p:cNvPicPr/>
          <p:nvPr/>
        </p:nvPicPr>
        <p:blipFill>
          <a:blip r:embed="rId1"/>
          <a:stretch/>
        </p:blipFill>
        <p:spPr>
          <a:xfrm>
            <a:off x="0" y="49536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652680" y="639720"/>
            <a:ext cx="7709400" cy="52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000000"/>
                </a:solidFill>
                <a:uFillTx/>
                <a:latin typeface="Comic Sans MS"/>
              </a:rPr>
              <a:t>A Revie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omic Sans MS"/>
              </a:rPr>
              <a:t>List the steps of the Scientific Metho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222222"/>
              </a:buClr>
              <a:buFont typeface="Comic Sans MS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222222"/>
              </a:buClr>
              <a:buFont typeface="Comic Sans MS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Testable Questions need 2 parts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222222"/>
              </a:buClr>
              <a:buFont typeface="Comic Sans MS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222222"/>
              </a:buClr>
              <a:buFont typeface="Comic Sans MS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Describe each type of variable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buClr>
                <a:srgbClr val="222222"/>
              </a:buClr>
              <a:buFont typeface="Comic Sans MS"/>
              <a:buChar char="•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Independent: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buClr>
                <a:srgbClr val="222222"/>
              </a:buClr>
              <a:buFont typeface="Comic Sans MS"/>
              <a:buChar char="•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Dependent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buClr>
                <a:srgbClr val="222222"/>
              </a:buClr>
              <a:buFont typeface="Comic Sans MS"/>
              <a:buChar char="•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Control: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4. Identify the 3 types of variables in the following question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“</a:t>
            </a:r>
            <a:r>
              <a:rPr b="1" i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Does changing the height of the ramp affect the speed of the car going down the ramp?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The independent variable is: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The dependent variable is: 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The controlled variables (3 to 5): _________________________________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5. List the steps to follow to turn the following question into a testable one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6. Transform the following statement into a testable one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“</a:t>
            </a:r>
            <a:r>
              <a:rPr b="1" i="1" lang="en-CA" sz="1400" spc="-1" strike="noStrike">
                <a:solidFill>
                  <a:srgbClr val="222222"/>
                </a:solidFill>
                <a:latin typeface="Comic Sans MS"/>
                <a:ea typeface="Arial"/>
              </a:rPr>
              <a:t>Students who sleep at least 8 hours are probably better students.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Scientific Metho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1"/>
          <p:cNvSpPr/>
          <p:nvPr/>
        </p:nvSpPr>
        <p:spPr>
          <a:xfrm>
            <a:off x="457200" y="1752480"/>
            <a:ext cx="8305920" cy="375156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Make Observ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Ask a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  <a:ea typeface="MS PGothic"/>
              </a:rPr>
              <a:t>Testa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Ques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Construct a Hypothe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Test (your hypothesis) with an Experim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Variables: Independent, Dependent, and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Analyze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Draw Conclu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Report and Communicate your Findi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562720" y="4572000"/>
            <a:ext cx="320040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 </a:t>
            </a: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testable ques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236232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estable question is one that can be answered by designing and conducting an experim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4" descr="MCj04344110000[1]"/>
          <p:cNvPicPr/>
          <p:nvPr/>
        </p:nvPicPr>
        <p:blipFill>
          <a:blip r:embed="rId1"/>
          <a:stretch/>
        </p:blipFill>
        <p:spPr>
          <a:xfrm>
            <a:off x="5791320" y="3505320"/>
            <a:ext cx="25732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696080" cy="2514600"/>
          </a:xfrm>
          <a:prstGeom prst="rect">
            <a:avLst/>
          </a:prstGeom>
          <a:solidFill>
            <a:srgbClr val="fff6b8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stable questions are always about chang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ne th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see what the effect i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nother th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228600" y="38088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 </a:t>
            </a: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testable ques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4" descr="MCj04344110000[1]"/>
          <p:cNvPicPr/>
          <p:nvPr/>
        </p:nvPicPr>
        <p:blipFill>
          <a:blip r:embed="rId1"/>
          <a:stretch/>
        </p:blipFill>
        <p:spPr>
          <a:xfrm>
            <a:off x="6324480" y="3962520"/>
            <a:ext cx="20322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685800" y="4513320"/>
            <a:ext cx="3240000" cy="19638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96880" y="304560"/>
            <a:ext cx="7175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Testable Ques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0880" y="16765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chang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height of the ram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5072040" y="4100400"/>
            <a:ext cx="3157560" cy="2148120"/>
          </a:xfrm>
          <a:prstGeom prst="rect">
            <a:avLst/>
          </a:prstGeom>
          <a:ln w="0">
            <a:noFill/>
          </a:ln>
        </p:spPr>
      </p:pic>
      <p:sp>
        <p:nvSpPr>
          <p:cNvPr id="182" name="Content Placeholder 2"/>
          <p:cNvSpPr/>
          <p:nvPr/>
        </p:nvSpPr>
        <p:spPr>
          <a:xfrm>
            <a:off x="3200400" y="2438280"/>
            <a:ext cx="1600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ff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Content Placeholder 2"/>
          <p:cNvSpPr/>
          <p:nvPr/>
        </p:nvSpPr>
        <p:spPr>
          <a:xfrm>
            <a:off x="457200" y="30481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speed of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 going down the ramp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2518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estable Question Forma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2193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 changing _______ affect _______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es changing _____ affect _____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I change ______, will it affect ______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Text Box 12" descr=""/>
          <p:cNvPicPr/>
          <p:nvPr/>
        </p:nvPicPr>
        <p:blipFill>
          <a:blip r:embed="rId1"/>
          <a:stretch/>
        </p:blipFill>
        <p:spPr>
          <a:xfrm>
            <a:off x="755640" y="5132520"/>
            <a:ext cx="7711920" cy="119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5:13:06Z</dcterms:created>
  <dc:creator>Tip</dc:creator>
  <dc:description/>
  <dc:language>en-US</dc:language>
  <cp:lastModifiedBy>Terry, Sean J. (ASD-E)</cp:lastModifiedBy>
  <cp:lastPrinted>2015-02-24T02:48:51Z</cp:lastPrinted>
  <dcterms:modified xsi:type="dcterms:W3CDTF">2018-04-18T01:16:28Z</dcterms:modified>
  <cp:revision>114</cp:revision>
  <dc:subject/>
  <dc:title>How to Write a  Testable Question</dc:title>
</cp:coreProperties>
</file>